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1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9.png" ContentType="image/png"/>
  <Override PartName="/ppt/media/image33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4E60-E1BA-4B81-934E-63BA2A96B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915A-BDF0-4B66-BBC3-E2E6069C2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6564-82CE-48B8-A0DE-253D42CAB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7FE-E542-45ED-8AB2-CE3EEC02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66E-7BAF-4C81-8BD6-B6A914C1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882-D18B-4BDD-9198-6FBE70E8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36B-B3FB-4A0A-A1D8-73D6F42A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A23-7E6D-4D24-9BC2-136EE8D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803-1490-498B-BF3D-A59FE120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9E0-15FD-4CB3-897F-6FA2013D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F76-4C7E-4408-8860-2F17887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37B-A6FA-4E72-B611-B643E894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33B-3E38-431C-AD4E-4684D417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3D0-8B29-4591-81BB-31C849D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6AE-B4AF-4E32-B5F3-78D83B4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B0B-5F06-4F8E-BE88-DEBCD7792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0 августа 1941 года (50-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На центральном участке фронта создалась невыгодная для нас обстановка, а на северном фланге мы терпим большие потери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11280" y="907920"/>
            <a:ext cx="8137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войны в город по множеству железнодорожных линий и веток каждый день прибывала не одна тысяча вагонов со всякими грузами. Линии передач несли электрическую энергию со станций, расположенных на Волхове, Свири, в верховьях Невы. Теперь все эти пути были перехвачены врагом. Огромный поток грузов сразу исс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вольствие и боеприпасы стали доставлять по воздуху, но это была капля в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Война, войн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323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79280" y="90792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ли создать новую линию снабжения через Ладожское озеро.Существовал и путь по воде – узкая полоса между вражескими армиями. Прежде этот путь мало использовался.  Ладожское озеро суровое и бурное, судов, пригодных для плаванья по нему было немного. Баржи водили по каналам, в обход озера, но теперь и каналы попали в руки врага. Оставалась Ладога.  Осенью 1941 года начались перевозки через озеро. Потом по нему пролегла знаменитая ледовая трасса – Дорога жизни, которая спасла Ленинград. Но в начале и перевозки по озеру давали ничтожно мало в сравнении с тем, сколько было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23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333360"/>
            <a:ext cx="795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55"/>
          <p:cNvPicPr/>
          <p:nvPr/>
        </p:nvPicPr>
        <p:blipFill>
          <a:blip r:embed="rId3"/>
          <a:stretch/>
        </p:blipFill>
        <p:spPr>
          <a:xfrm>
            <a:off x="179280" y="378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23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307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дневника начальника Генерального штаба сухопутных войск фашистской Германии генерал-полковника Гальд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79280" y="4076640"/>
            <a:ext cx="85694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Лада</cp:lastModifiedBy>
  <dcterms:modified xsi:type="dcterms:W3CDTF">2014-11-06T08:12:28Z</dcterms:modified>
  <cp:revision>36</cp:revision>
  <dc:subject/>
  <dc:title>65-летию Победы посвящается…</dc:title>
</cp:coreProperties>
</file>